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91A-ABF3-4597-A9C5-C20344FA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462-76F1-4474-9579-F03DD1DD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671-AB4E-4DA8-AA15-D5F7EC90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0B3-4DB8-4308-8854-7626CFBD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DF6-5CD3-4B6D-9EF2-0620D371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D6B-E0FD-45E7-831B-31C1579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DB1-A884-4E57-82EA-63C4C85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96E-AF9E-4931-8491-9A92F24A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34D-9069-4D5B-BA92-675A696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D79-CE00-4242-9E35-C7064A6B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5AA-3B55-4B9E-92FF-EA7B9F5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CB6-D540-42B5-8F97-C4EE4B9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8DF6-5AEF-4542-9513-28B240DF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k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livia Sno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junk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 St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8102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ce cr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as one of the junk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delicious but very un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314800" cy="226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14241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fries are yummy but bad for you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gr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43800" y="1981080"/>
            <a:ext cx="103968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141120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23004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uts are great but not for your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icing and sprinkles and glaze all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09680" y="1752480"/>
            <a:ext cx="2486160" cy="184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2484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y is sweet but sometimes to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y rots your teeth and gives you cavities or maybe even a broken 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1689120"/>
            <a:ext cx="54864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za has a lot of grease and che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ight just be the unhealthiest junk food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people know its bad but its so tem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0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9Z</dcterms:modified>
  <cp:revision>14</cp:revision>
  <dc:subject/>
  <dc:title>Junk Food</dc:title>
</cp:coreProperties>
</file>